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78E5C-2A10-4060-93E2-7B5B312AC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62BBA-AD17-4C71-B6E5-87E8D9271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AAA3C-9091-48A2-8EBC-787035E95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5B8A7-C667-495B-B5F5-F0835702B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68902-8E99-4465-BBA9-078FCDDF3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2A4C5-5DC5-407F-8D8E-E4A36063E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58018-AF76-44B4-8C53-6C0043D36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2DB5C-7ADF-407C-B924-F24FFCE7C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9E307-E192-496B-AB1B-DABAD610F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DD70E-0AEC-4241-B8E1-8B0CC2838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F3508-A6D1-467D-AD02-3810C6805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FB65C-CDD1-4E07-B790-73A55B93F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10367-CA9E-4C6B-A855-1BE3623E93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38080" y="2514600"/>
            <a:ext cx="762012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762120"/>
            <a:ext cx="7620120" cy="18288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066680" y="838080"/>
            <a:ext cx="716292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Playbill"/>
              </a:rPr>
              <a:t>WinOdEan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Playbill"/>
              <a:ea typeface="Playbill"/>
            </a:endParaRPr>
          </a:p>
        </p:txBody>
      </p:sp>
      <p:sp>
        <p:nvSpPr>
          <p:cNvPr id="46" name=""/>
          <p:cNvSpPr/>
          <p:nvPr/>
        </p:nvSpPr>
        <p:spPr>
          <a:xfrm>
            <a:off x="990720" y="259092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Windo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90720" y="3124080"/>
            <a:ext cx="739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 Extra Bold"/>
              </a:rPr>
              <a:t>Optimiz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90720" y="373392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Data En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38080" y="4343400"/>
            <a:ext cx="7620120" cy="182880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4724280"/>
            <a:ext cx="7543800" cy="9234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etter Gothic"/>
              </a:rPr>
              <a:t>Affinity 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e-mail: affinity@vsnl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24T08:44:49Z</dcterms:created>
  <dc:creator>OPEY A.</dc:creator>
  <dc:description/>
  <dc:language>en-US</dc:language>
  <cp:lastModifiedBy>OPEY A.</cp:lastModifiedBy>
  <dcterms:modified xsi:type="dcterms:W3CDTF">1999-12-27T13:44:17Z</dcterms:modified>
  <cp:revision>12</cp:revision>
  <dc:subject/>
  <dc:title>No Slide Title</dc:title>
</cp:coreProperties>
</file>